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392B-029E-494B-AAEA-CC1F57E6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E72-CC02-421D-AD46-F169938D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909-596C-4F0D-9878-DE0A703B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BE36-05BF-4C07-9C5E-4DD7AAD8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DAD1-4708-44D9-BEB4-243CC155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FECA-526A-481A-91C8-2A791F35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F30-CB05-4C12-99E2-34C430A6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69D-1DBD-41A6-ABB5-A0D35023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C752-22F4-4C05-9077-4FDEA4A3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4CB-98D2-4F76-936B-6C5C5B89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150-5C51-471B-B316-79CF2003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0ADF-00FB-430C-924A-7E796B83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DD96-393F-45EA-8C91-1627859FD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rting with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XY Sc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619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plot tw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eri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ata series against each 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add tren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71640" y="3284640"/>
            <a:ext cx="3240000" cy="270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97" name=""/>
          <p:cNvGraphicFramePr/>
          <p:nvPr/>
        </p:nvGraphicFramePr>
        <p:xfrm>
          <a:off x="4716360" y="3213000"/>
          <a:ext cx="4103640" cy="2975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6360" y="3213000"/>
                    <a:ext cx="4103640" cy="29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 flipV="1">
            <a:off x="5508720" y="4005000"/>
            <a:ext cx="2735280" cy="136836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one series on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re contribution of differen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492360" y="2992320"/>
          <a:ext cx="5651640" cy="339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992320"/>
                    <a:ext cx="5651640" cy="33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2447640" cy="151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ughn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 a pie chart, for two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87280" y="3209760"/>
            <a:ext cx="3564000" cy="169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08" name=""/>
          <p:cNvGraphicFramePr/>
          <p:nvPr/>
        </p:nvGraphicFramePr>
        <p:xfrm>
          <a:off x="4032360" y="2398680"/>
          <a:ext cx="4932360" cy="3576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2360" y="2398680"/>
                    <a:ext cx="4932360" cy="35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pecialist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ad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ub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ylinder, cone, pyra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per exercise (5 minut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lect (and sketch) an appropriate chart typ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rt Wiz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F11 key for instant char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pt-student-nos.xl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yDep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category column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yYe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line (category label prob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ket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xy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ket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line year/nos (non adjac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sk 1, 2, 3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tegor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sk 4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sk 5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eric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mending existing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rt menu/toolbar/shortcut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rt typ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yDep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change t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 lo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ma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series (select &amp; dele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 series (right-click – Source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 series (Chart &gt; Add Data) or drag and d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sk 6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nding evals-based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ding a secondary ax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series (dem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ome-profit-margin.xl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con (chart toolb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xis ta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select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o change data point 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rt Typ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con (chart toolb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rror bars (baby heigh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uble-click 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ight-click &amp; Format Data Series 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Format&gt;Selected Data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-error bars t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xed values or perce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 deviations (plots mean and std-dev of all data – probably not what you w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lues stored in worksheet (custom option and select cells to get positive and negative errors from (if +ve and –ve errors are eq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 8 p. 51 Error 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voiding common mist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stakes: Plotting data out of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95280" y="2637000"/>
          <a:ext cx="4032360" cy="294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37000"/>
                    <a:ext cx="4032360" cy="29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500720" y="2637000"/>
          <a:ext cx="4032000" cy="2946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637000"/>
                    <a:ext cx="403200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ucl.ac.uk/is/training/exercise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Excel2002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Windows Expl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r:\training.dir\excelp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takes: Misleading scal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5400" y="2349360"/>
            <a:ext cx="1992240" cy="215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4067280" y="1413000"/>
          <a:ext cx="4321080" cy="2469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1413000"/>
                    <a:ext cx="4321080" cy="24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067280" y="3832200"/>
          <a:ext cx="4321080" cy="3025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3832200"/>
                    <a:ext cx="432108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takes: Aspect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446800" y="1700280"/>
          <a:ext cx="27972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0" y="1700280"/>
                    <a:ext cx="2797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79280" y="2421000"/>
          <a:ext cx="4759560" cy="2052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421000"/>
                    <a:ext cx="475956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takes: Category chart for valu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2398680"/>
          <a:ext cx="4038480" cy="292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98680"/>
                    <a:ext cx="4038480" cy="29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648320" y="2386080"/>
          <a:ext cx="4495680" cy="2987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386080"/>
                    <a:ext cx="449568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takes: Too many slices of 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2386080"/>
          <a:ext cx="4038480" cy="29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86080"/>
                    <a:ext cx="40384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648320" y="2386080"/>
          <a:ext cx="4038480" cy="2952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386080"/>
                    <a:ext cx="40384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takes: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42920" y="1830240"/>
          <a:ext cx="691380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830240"/>
                    <a:ext cx="69138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takes: Insufficien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t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xis la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g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use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r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ing a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ifying a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oiding common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81640" y="2960640"/>
            <a:ext cx="1807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32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use char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ssist understanding of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2952720" cy="276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4356000" y="2421000"/>
          <a:ext cx="4545000" cy="3830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2421000"/>
                    <a:ext cx="4545000" cy="38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n to use a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item to other items </a:t>
            </a:r>
            <a:br>
              <a:rPr sz="2800"/>
            </a:br>
            <a:r>
              <a:rPr b="0" i="1" lang="en-GB" sz="2800" spc="-1" strike="noStrike">
                <a:solidFill>
                  <a:srgbClr val="008080"/>
                </a:solidFill>
                <a:latin typeface="Arial"/>
              </a:rPr>
              <a:t>(student numbers for different depart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data over time</a:t>
            </a:r>
            <a:br>
              <a:rPr sz="2800"/>
            </a:br>
            <a:r>
              <a:rPr b="0" i="1" lang="en-GB" sz="2800" spc="-1" strike="noStrike">
                <a:solidFill>
                  <a:srgbClr val="008080"/>
                </a:solidFill>
                <a:latin typeface="Arial"/>
              </a:rPr>
              <a:t>(student numbers since 19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relative comparisons </a:t>
            </a:r>
            <a:br>
              <a:rPr sz="2800"/>
            </a:br>
            <a:r>
              <a:rPr b="0" i="1" lang="en-GB" sz="2800" spc="-1" strike="noStrike">
                <a:solidFill>
                  <a:srgbClr val="008080"/>
                </a:solidFill>
                <a:latin typeface="Arial"/>
              </a:rPr>
              <a:t>(proportion labour, tory, lib dem, green, o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data relationships </a:t>
            </a:r>
            <a:br>
              <a:rPr sz="2800"/>
            </a:br>
            <a:r>
              <a:rPr b="0" i="1" lang="en-GB" sz="2800" spc="-1" strike="noStrike">
                <a:solidFill>
                  <a:srgbClr val="008080"/>
                </a:solidFill>
                <a:latin typeface="Arial"/>
              </a:rPr>
              <a:t>(marketing expenditure/student num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38560" y="310788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050920" y="1916280"/>
          <a:ext cx="5940720" cy="359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16280"/>
                    <a:ext cx="5940720" cy="35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990160" y="1484280"/>
            <a:ext cx="5258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"/>
              </a:rPr>
              <a:t>Data points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 (bars, lines, columns, sectors, po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05400" y="5950080"/>
            <a:ext cx="31273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"/>
              </a:rPr>
              <a:t>Series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(data points which come from same row or colum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292640"/>
            <a:ext cx="1440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"/>
              </a:rPr>
              <a:t>Value axis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 (y-ax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5950080"/>
            <a:ext cx="1800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"/>
              </a:rPr>
              <a:t>Category axis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 (x-ax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173440" y="429264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2781360"/>
            <a:ext cx="1944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"/>
              </a:rPr>
              <a:t>Scale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(min, max, incre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373720"/>
            <a:ext cx="16556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80"/>
                </a:solidFill>
                <a:latin typeface="Arial"/>
              </a:rPr>
              <a:t>Gridlines 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</a:rPr>
              <a:t>(major &amp; min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708360" y="4868640"/>
            <a:ext cx="503280" cy="108108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292360" y="4005360"/>
            <a:ext cx="1584360" cy="19447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6156360" y="3357360"/>
            <a:ext cx="720720" cy="259236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7812000" y="3789360"/>
            <a:ext cx="720720" cy="50328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403280" y="2708280"/>
            <a:ext cx="1081080" cy="2160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03280" y="2924280"/>
            <a:ext cx="1513080" cy="18000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692360" y="4005360"/>
            <a:ext cx="1295280" cy="5760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619280" y="4508640"/>
            <a:ext cx="1297080" cy="122544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19280" y="4652640"/>
            <a:ext cx="1368360" cy="108108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563640" y="1773360"/>
            <a:ext cx="144360" cy="19429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08360" y="1773360"/>
            <a:ext cx="142920" cy="115092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lumn &amp; Bar ch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vertic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horizon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to compare discrete item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eople, countries, 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categor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003640" y="1989000"/>
            <a:ext cx="2778120" cy="130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81" name=""/>
          <p:cNvGraphicFramePr/>
          <p:nvPr/>
        </p:nvGraphicFramePr>
        <p:xfrm>
          <a:off x="468360" y="3789360"/>
          <a:ext cx="3390840" cy="2657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789360"/>
                    <a:ext cx="339084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932360" y="3789360"/>
          <a:ext cx="3400560" cy="2666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32360" y="3789360"/>
                    <a:ext cx="34005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ne ch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plotti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ful for trends over time or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283520" cy="92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88" name=""/>
          <p:cNvGraphicFramePr/>
          <p:nvPr/>
        </p:nvGraphicFramePr>
        <p:xfrm>
          <a:off x="2195640" y="3828960"/>
          <a:ext cx="5554440" cy="2840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3828960"/>
                    <a:ext cx="555444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rea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 a line chart, coloured in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be st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76360" y="3068640"/>
          <a:ext cx="586728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068640"/>
                    <a:ext cx="586728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13:56:20Z</dcterms:created>
  <dc:creator>ccaafis</dc:creator>
  <dc:description/>
  <dc:language>en-US</dc:language>
  <cp:lastModifiedBy>Fiona Strawbridge</cp:lastModifiedBy>
  <dcterms:modified xsi:type="dcterms:W3CDTF">2005-05-05T16:10:53Z</dcterms:modified>
  <cp:revision>19</cp:revision>
  <dc:subject/>
  <dc:title>Charting with Excel</dc:title>
</cp:coreProperties>
</file>